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052C8-7F65-442D-A649-58A9A4DB3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79001-8967-4CB9-8CFD-E30BBFC4C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5B81D-1EC3-45B2-AA2E-120B3586A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50518-4DB2-4962-AA28-05BCBBD70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27B960-D741-46A5-9BA4-D39A6CB72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9DBF1-93CC-46A0-9F90-1C9FADBF2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F119A-B510-456A-8AB4-6BCB2BC19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EF990-6067-410C-AFBA-00F573FB7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5577C-81E4-4BF0-A8D6-F8B7E35D5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05AC3-071C-4449-8840-0F6075AD0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A5D25-1F71-4044-9DCB-55E826807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01A2A-2E47-4191-AB9B-D54DD7DBD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FE638-6932-4060-9777-486DAE956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27E0B-C536-4CA4-8791-B38BB48D5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A90DA-C66F-4378-8507-D53EB4C96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9160A-3A63-460B-A78C-CF1585147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D3AE6-6CFE-46D1-B353-B9BFE90391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70322-9317-4601-A218-880884C59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1514A-979A-4482-A811-0F68E8CC6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AA9CE-5880-4729-8369-1997BE654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69274-6D34-451F-8169-45ECFF637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A8D55-C1AE-4C6C-AEF9-1BA335624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B39BD-ECD5-492D-A679-7CCA155FC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B4BB3-AEDC-4073-8D83-9BD44AA9B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A780-A0EC-4729-9FB0-0333A6C220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134E-D33E-40F9-BDEF-88A75901CA0C}"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十二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经营效益评价</a:t>
            </a:r>
            <a:r>
              <a:rPr b="0"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经营稳健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公司经营稳健性指标包括反映承保业务发展能力和承保业务质量的各项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承保业务发展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费收入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费收入增长率</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本期累计保费收入</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en-US" sz="3200" spc="-1" strike="noStrike">
                <a:solidFill>
                  <a:srgbClr val="ffffcc"/>
                </a:solidFill>
                <a:latin typeface="Times New Roman"/>
                <a:ea typeface="楷体_GB2312"/>
              </a:rPr>
              <a:t>100%</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市场占有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寿险公司：</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标准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长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短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二）承保质量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综合费用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综合成本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综合赔付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应收保费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退保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运营能力评价指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有资产经营现金流量回报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经营现金流与净利润的比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资产经营现金流与保费收入的比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偿债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偿付能力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流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速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资产负债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经营现金净流量对负债的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财务稳定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财务稳定性系数</a:t>
            </a:r>
            <a:r>
              <a:rPr b="1" lang="en-US" sz="3200" spc="-1" strike="noStrike">
                <a:solidFill>
                  <a:srgbClr val="ffffcc"/>
                </a:solidFill>
                <a:latin typeface="Times New Roman"/>
                <a:ea typeface="楷体_GB2312"/>
              </a:rPr>
              <a:t>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  保险公司经营成果评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盈利能力评价</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利润评价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营业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净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收入净利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成本费用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6.</a:t>
            </a:r>
            <a:r>
              <a:rPr b="1" lang="zh-CN" sz="3200" spc="-1" strike="noStrike">
                <a:solidFill>
                  <a:srgbClr val="ffffcc"/>
                </a:solidFill>
                <a:latin typeface="Times New Roman"/>
                <a:ea typeface="楷体_GB2312"/>
              </a:rPr>
              <a:t>资本金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7.</a:t>
            </a:r>
            <a:r>
              <a:rPr b="1" lang="zh-CN" sz="3200" spc="-1" strike="noStrike">
                <a:solidFill>
                  <a:srgbClr val="ffffcc"/>
                </a:solidFill>
                <a:latin typeface="Times New Roman"/>
                <a:ea typeface="楷体_GB2312"/>
              </a:rPr>
              <a:t>全员人均利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投资收益率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险资金运用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投资收益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投资收入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内含价值和一年新业务价值</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寿险公司）</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社会贡献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社会贡献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上缴积累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分析寿险公司的三差损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评价人寿保险公司经营稳健性有哪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用哪些指标可以评价保险公司的偿债能力？</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如何评价和分析保险公司的盈利能力？</a:t>
            </a: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如何评价保险公司的社会贡献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寿险公司利源分析</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440" y="2057400"/>
            <a:ext cx="8134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公司的利润总额由营业利润及营业外收入减营业外支出的差额两部分构成，利润总额的计算公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500" spc="-1" strike="noStrike">
                <a:solidFill>
                  <a:srgbClr val="ffffcc"/>
                </a:solidFill>
                <a:latin typeface="楷体_GB2312"/>
                <a:ea typeface="楷体_GB2312"/>
              </a:rPr>
              <a:t>利润总额</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利润</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收入</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支出）</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寿险公司的利润来源于死差益、费差益、利差益、退保益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是由实际死亡率低于预定死亡率，按预定死亡率收取的纯保费支付实际死亡成本后有盈余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死亡率</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死亡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风险保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是实际的营业费用率低于预期的营业费用率而产生的利益。</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费用率—实际费用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保险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是实际的投资收益率高于预定的利率时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收益率—预定利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责任准备金总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退保益是指退保或失效保单的责任准备金与退保金之间的差额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在寿险公司的利润来源中，死差益是比较稳定的，费差益是保险公司可以控制的，退保益是必然产生的，惟有利差益受外部因素的影响较大，尤其随着寿险市场竞争的不断加剧，死差益、费差益基本上趋于零，而保险公司的利润来源主要就是利差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经营状况评价</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34:52Z</dcterms:modified>
  <cp:revision>57</cp:revision>
  <dc:subject/>
  <dc:title>没有幻灯片标题</dc:title>
</cp:coreProperties>
</file>