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886D-68FB-47A2-8C12-B7A02FB32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109D-8037-4323-BDB5-9418BC57B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AB7B-C7F1-44CC-B2F8-04B9CFA28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2545-3A98-482C-B8F3-6ED374BD6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F2373-2B2B-4EF5-86B9-2A754D534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42D67-DB49-49F3-B100-CB579D904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57818-89CE-4B10-8931-7E1D985FB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AB1DA-BF10-4CCC-9090-36D4ED16C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F700F-D9B8-41DD-9BEE-74989F8B3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F217C-BF8E-4A27-A725-4FFC33401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B6269-EA56-4EE6-921E-2F14A2C2D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05A6-8E11-4C93-A9CF-0429864C3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D6E46-3A95-488B-85C7-320D5D7CF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911BE-D604-41ED-8944-390A84D9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239E5-FAB4-446E-ADAB-8D79189CB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32117-CBF3-4FA3-A29A-44D31A814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EE301-B48F-4120-ADF6-6FA3EF4D7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550C-1F30-41B9-986F-9D6C309A8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56E1-0E0E-4EEB-A383-56922132A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5F16-1D10-4E96-AA63-BEB282FC5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533E-E6CA-47E2-B095-4F4539E73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53C2-F0D6-4DCD-B45C-4E01DB86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3488-52B1-4572-9528-C0484382B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F27D-79F5-4A0A-BD01-4AB120698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63789-7411-4D9F-8F42-63379DFD1F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95352-9173-4D72-A956-E9EFC71A9F0D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436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第十一章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保险公司人力资源管理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三、保险公司人事考核的方法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物比较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因素分析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定量考核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综合考评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考试评议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4360" y="3141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第三节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保险公司人力资源培训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12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、员工培训的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战略性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学以致用的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因人施教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内容结构合理化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员工教育培训的内容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基层人员培训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专业技术人员培训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基层管理人员培训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高级管理人员培训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三、员工培训的方法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职务转换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研究讨论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在职培训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学校培训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4360" y="299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第四节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人员激励机制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激励是指挖掘人的潜力，充分调动人的积极性。在现代公司管理制度中，应该重视对职工的激励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公司的激励手段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: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种是物质激励，另一种是精神激励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力资源管理部门在采取激励措施时还必须注意以下几点：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将物质激励和精神激励相结合，采用恰当的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激励组合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在不同时期、不同环境条件下，对不同的员工要区别对待，灵活激励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激励措施要公正，要以客观事实为依据，恰如其分地进行激励，对公司的每一个员工都要一视同仁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4360" y="3357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第五节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劳动工资管理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、保险公司的劳动管理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劳动分工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劳动协作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定额定编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4360" y="299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第一节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人力资源管理概述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工资福利管理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员工的劳动报酬分两部分，一部分是直接的金钱报酬，包括工资、奖金、津贴；另一部分是间接的报酬，也就是职工的福利。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39280" y="404280"/>
            <a:ext cx="8209080" cy="568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复习思考题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公司人力资源管理的主要内容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公司人力资源管理应遵循哪些原则？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公司人事考核的主要内容。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公司员工培训的基本原则是什么？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公司员工培训的主要内容。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激励有哪几种类型？保险公司在采取激励机制时应注意哪些问题？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7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公司劳动管理的主要内容是什么？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、保险公司人力资源管理的概念与任务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人力资源管理的基本任务是根据保险公司发展战略的要求，通过有计划地对人力资源进行合理配置，加强公司员工的教育培训和人力资源的开发，推动整个保险公司各项工作的开展，确保保险公司战略目标的实现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保险公司人力资源管理的内容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力资源规划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员工的招聘、选择和人事安排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员工结构的合理配置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员工的教育、培训和开发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员工工作评价和考核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员工事业生涯开发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7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工资福利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三、保险公司人力资源管理的原则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力资源管理时须遵循以下几个原则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协调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任人唯贤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能位相宜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群体合力和互补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激励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动态适应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四、加强人力资源管理的意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提高保险公司的劳动效率和经济效益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促进保险公司职工的全面发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有利于建立现代保险公司制度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436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第二节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人事绩效考核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、保险公司人事绩效考核的功能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基础功能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导向功能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促进功能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监督功能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人事绩效考核的内容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人事绩效考核的主要内容有：德、能、勤、绩四个方面，以绩为重点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00:24:50Z</dcterms:created>
  <dc:creator>aa</dc:creator>
  <dc:description/>
  <dc:language>en-US</dc:language>
  <cp:lastModifiedBy>苏菲的小猫</cp:lastModifiedBy>
  <dcterms:modified xsi:type="dcterms:W3CDTF">2020-05-25T06:08:57Z</dcterms:modified>
  <cp:revision>55</cp:revision>
  <dc:subject/>
  <dc:title>没有幻灯片标题</dc:title>
</cp:coreProperties>
</file>