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RBRAK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23B3-3FBC-4013-B357-4C9AF4A01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8BA2-34CD-44C6-B1B6-B7CFE963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CB9A-CFD4-4B40-BA34-CEAF1588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A13B-8493-45BE-9867-DB1AE916F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9C89-96DC-4781-A5A2-2C64A74E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4A0C-199A-411F-83DD-70C2D780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070B-6806-4C2D-9930-6A6C213D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8DF3-DF12-408B-ABC6-77D27BDB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24E4-8A9D-4C25-9A50-F75667BE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F13D-8347-4E54-8E1F-E3A155F9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D277-4E45-450B-9370-683FCDC1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AA74-C48A-4F5B-A982-E21AEA0C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FCC8-B4D9-4147-B14D-76C5880E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9405-C2FC-4D79-9874-4AF85AF3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1E05-6966-4D84-8C90-4599D7DF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7776-B810-43AC-B662-318FE263F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C83F-EB71-41FB-BDD8-2609C4860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CD39-E18C-442F-948A-FE8377C2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7F2B-FC21-4DED-8177-9DA975F3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1ACE-D0E6-4242-8411-573F2163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1838-8612-48D8-9CB6-0087561C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AAED-462B-44DE-A77A-9FA0EB52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7F99-56A3-4D59-AF17-8C0A5AC6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2900-806F-46F6-BEB3-497BA9C5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75F5-D74D-4BE6-8694-DBA1CF5E8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74DB-DE93-425A-8CEB-416AF2F99E8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-812880" algn="ctr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第三章  保险营销管理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三节  传统的保险营销模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代理人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代理人的种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代理人的业务范围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代理人的法律特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四）保险代理人营销的优缺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保险经纪人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经纪人的种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经纪人的职业操守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经纪人的业务运作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四节  创新的保险营销模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电话营销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电话营销的优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电话营销的缺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互联网营销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互联网营销的优点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大大降低了展业成本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增加了新的销售机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有利于提高保险服务质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网络营销的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安全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法律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道德风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银行保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银行保险的产生和发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银行保险的合作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合作协议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合资公司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建立金融服务集团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金融服务集团的经营模式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五节  大数据和互联网保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中的大数据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中大数据技术是基于对海量数据进行分析，从不同维度和深度挖掘保险应用特性，进而优化保险价值链条的各个环节。其中精准营销和精准定价以及反欺诈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大数据在精准营销中的作用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精准获取新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持续转化准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减少退保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互联网保险的定义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广义定义：互联网保险业务是指保险机构依托互联网和移动通信等技术，通过自营网络平台、第三方网络平台等开展保险业务、提供保险服务的保险经营活动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狭义定义：互联网保险是指基于互联网、大数据、云数据等信息技术手段，从保险产品设计、风险管理和保险信息咨询到投保、核保、保全、理赔和给付等保险全过程互联网化的保险经营活动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互联网保险参与的主体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开展互联网保险业务的传统保险公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专业互联网保险公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三方电子商务平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三方中介平台。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第一节   保险营销的概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营销  保险代理人  保险经纪人   互联网营销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银行保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保险营销的宏观环境因素和微观环境因素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经纪人的业务运作主要包括哪些方面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新险种开发的主要步骤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新险种开发时如何优化险种组合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电话营销？它有什么优缺点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有哪些优点？存在哪些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银行保险的合作方式有哪些？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9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什么是互联网保险（狭义）？我国互联网保险参与主体有哪些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营销的概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营销的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P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要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产品、价格、分销渠道和促销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保险营销的发展阶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产品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销售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市场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保险营销环境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宏观环境分析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微观环境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投保人行为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二节    保险新险种的开发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一、保险新险种的界定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新险种是指整体险种或其中的一部分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所创新或改革，能够给保险消费者带来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利益和满足的险种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二、保险新险种开发的步骤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新险种开发的程序包括构思的形成、构思的筛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选、市场分析、开发设计、试销过程和商品化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步骤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三、保险新险种开发的策略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目标市场策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保险产品组合策略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险种质量优化策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29:14Z</dcterms:modified>
  <cp:revision>24</cp:revision>
  <dc:subject/>
  <dc:title>没有幻灯片标题</dc:title>
</cp:coreProperties>
</file>