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4BBDA-D151-46AE-991F-2213E8C83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B527E-9322-46CF-A60A-FE6866F35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C0B37-9231-417F-9D9C-7CF993871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55F49-AFCA-44A1-96C5-12244E1E4F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22CD3D-F56E-4BA9-9A47-DC14E42732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6CF039-E51F-4470-B6AA-8BD6320E9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AFD96-9E23-4D80-BE7F-8226A532E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65C65-D351-4B2A-B0FE-5334F8C3E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CA8C9-ABDE-4868-A8D7-F87513AE0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170E2-0BCF-451C-85F4-58F443E87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51C47-EB9C-45BB-91D2-4C13BDF46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90B1A-553B-4D69-90E5-3E8E165A6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65520-638D-48AD-85F8-31C6B9F05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5F31E-9C2A-457F-A5A9-1B8E7F095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14B0D8-BD04-43AA-B494-13AD4CDF6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E811DF-6EDA-4239-88F8-88BEB49751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F81892-760C-425D-B808-6A21C8AA31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50F28-90F1-40D8-A506-8504E1DF0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39D9E-20AC-4FA3-AB65-FBDEEB28D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D4AD1-56C3-4766-BFCB-349A6CB39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FBAFD-0077-4996-A37D-08D4216E2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6EEBF-1568-43A2-A6E5-D69FCEA09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8B4E7-8FA6-4448-A82B-A473C4F18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41338-0DAB-47F8-8FEE-40D1F1F7F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DDEB2-FDC1-4F5A-9ECB-F4B891C593E0}"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0CD65-BAE8-44F9-8BDA-67570E79B0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65983-294F-4227-900C-FDC6444E42C4}"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58D70-3A68-475A-A5A7-C5990B76F9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6C7B4-9BFE-4E2E-AA27-45DC04DE9E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692280"/>
            <a:ext cx="7848360" cy="1800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八章</a:t>
            </a:r>
            <a:r>
              <a:rPr b="1" lang="en-US" sz="3600" spc="-1" strike="noStrike">
                <a:solidFill>
                  <a:srgbClr val="ac0000"/>
                </a:solidFill>
                <a:latin typeface="黑体"/>
                <a:ea typeface="黑体"/>
              </a:rPr>
              <a:t>  </a:t>
            </a:r>
            <a:r>
              <a:rPr b="1" lang="zh-CN" sz="3600" spc="-1" strike="noStrike">
                <a:solidFill>
                  <a:srgbClr val="ac0000"/>
                </a:solidFill>
                <a:latin typeface="黑体"/>
                <a:ea typeface="黑体"/>
              </a:rPr>
              <a:t>消费者群体与意见领袖</a:t>
            </a:r>
            <a:endParaRPr b="1" lang="en-US" sz="3600" spc="-1" strike="noStrike">
              <a:solidFill>
                <a:srgbClr val="330066"/>
              </a:solidFill>
              <a:latin typeface="Arial"/>
            </a:endParaRPr>
          </a:p>
        </p:txBody>
      </p:sp>
      <p:sp>
        <p:nvSpPr>
          <p:cNvPr id="152" name="Rectangle 4"/>
          <p:cNvSpPr/>
          <p:nvPr/>
        </p:nvSpPr>
        <p:spPr>
          <a:xfrm>
            <a:off x="1187280" y="2349360"/>
            <a:ext cx="695808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群体特征与分类</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群体规范与群体压力</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参照群体与意见领袖</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模仿、从众与消费流行</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15C29-4767-45F2-8163-693CF40FAC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矩形 3"/>
          <p:cNvSpPr/>
          <p:nvPr/>
        </p:nvSpPr>
        <p:spPr>
          <a:xfrm>
            <a:off x="2089440" y="907920"/>
            <a:ext cx="3594600" cy="630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群体规范与群体压力</a:t>
            </a:r>
            <a:endParaRPr b="0" lang="en-US" sz="3200" spc="-1" strike="noStrike">
              <a:solidFill>
                <a:srgbClr val="000000"/>
              </a:solidFill>
              <a:latin typeface="Arial"/>
            </a:endParaRPr>
          </a:p>
        </p:txBody>
      </p:sp>
      <p:sp>
        <p:nvSpPr>
          <p:cNvPr id="194" name="TextBox 5"/>
          <p:cNvSpPr/>
          <p:nvPr/>
        </p:nvSpPr>
        <p:spPr>
          <a:xfrm>
            <a:off x="1692360" y="1954080"/>
            <a:ext cx="5560920" cy="4390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规范</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群体压力</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群体的内部沟通</a:t>
            </a:r>
            <a:endParaRPr b="0" lang="en-US" sz="30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BAE88-65FC-4E88-A524-37496D533F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矩形 4"/>
          <p:cNvSpPr/>
          <p:nvPr/>
        </p:nvSpPr>
        <p:spPr>
          <a:xfrm>
            <a:off x="544680" y="1413000"/>
            <a:ext cx="7988040" cy="294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规范</a:t>
            </a:r>
            <a:endParaRPr b="0" lang="en-US" sz="2400" spc="-1" strike="noStrike">
              <a:solidFill>
                <a:srgbClr val="000000"/>
              </a:solidFill>
              <a:latin typeface="Arial"/>
            </a:endParaRPr>
          </a:p>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指在某一特定群体活动中，被认为是合适的成员行为的一种期望，是群体所确立的一种标准化的观念。</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成文规范：一般由组织正式规定，通过制定明确的书面条文以行政、政策乃至法律的手段来为成员提供行为标准，强制性地影响着消费者的心理与行为</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成文规范：群体成员所认同的文化与习俗对于个体的约束，其作用形式表现为通过群体压力迫使消费者调整自身行为，以适应、顺从群体的要求</a:t>
            </a:r>
            <a:endParaRPr b="0" lang="en-US" sz="2000" spc="-1" strike="noStrike">
              <a:solidFill>
                <a:srgbClr val="000000"/>
              </a:solidFill>
              <a:latin typeface="Arial"/>
            </a:endParaRPr>
          </a:p>
        </p:txBody>
      </p:sp>
      <p:sp>
        <p:nvSpPr>
          <p:cNvPr id="198" name="矩形 5"/>
          <p:cNvSpPr/>
          <p:nvPr/>
        </p:nvSpPr>
        <p:spPr>
          <a:xfrm>
            <a:off x="1042920" y="317520"/>
            <a:ext cx="51548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规范</a:t>
            </a: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99237-8AE9-41C0-AEC2-2B61EC288F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矩形 3"/>
          <p:cNvSpPr/>
          <p:nvPr/>
        </p:nvSpPr>
        <p:spPr>
          <a:xfrm>
            <a:off x="900000" y="333360"/>
            <a:ext cx="645336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群体压力</a:t>
            </a:r>
            <a:endParaRPr b="0" lang="en-US" sz="3200" spc="-1" strike="noStrike">
              <a:solidFill>
                <a:srgbClr val="000000"/>
              </a:solidFill>
              <a:latin typeface="Arial"/>
            </a:endParaRPr>
          </a:p>
        </p:txBody>
      </p:sp>
      <p:sp>
        <p:nvSpPr>
          <p:cNvPr id="202" name="矩形 5"/>
          <p:cNvSpPr/>
          <p:nvPr/>
        </p:nvSpPr>
        <p:spPr>
          <a:xfrm>
            <a:off x="468360" y="1773360"/>
            <a:ext cx="7986600" cy="16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压力</a:t>
            </a:r>
            <a:endParaRPr b="0" lang="en-US" sz="24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任何社会群体都会对与之有关或所属的消费者心理产生一定的影响。这种影响往往是通过具体的信念、价值观和群体规范对消费者形成一种无形的压力或约束力，我们把这种压力称之为群体压力</a:t>
            </a:r>
            <a:endParaRPr b="0" lang="en-US" sz="2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D42C2-7AD7-4E8C-824F-3905414E69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矩形 3"/>
          <p:cNvSpPr/>
          <p:nvPr/>
        </p:nvSpPr>
        <p:spPr>
          <a:xfrm>
            <a:off x="500040" y="642960"/>
            <a:ext cx="74566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群体的内部沟通</a:t>
            </a:r>
            <a:endParaRPr b="0" lang="en-US" sz="3200" spc="-1" strike="noStrike">
              <a:solidFill>
                <a:srgbClr val="000000"/>
              </a:solidFill>
              <a:latin typeface="Arial"/>
            </a:endParaRPr>
          </a:p>
        </p:txBody>
      </p:sp>
      <p:sp>
        <p:nvSpPr>
          <p:cNvPr id="206" name="矩形 5"/>
          <p:cNvSpPr/>
          <p:nvPr/>
        </p:nvSpPr>
        <p:spPr>
          <a:xfrm>
            <a:off x="1763640" y="1413000"/>
            <a:ext cx="6769080" cy="460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800" spc="-1" strike="noStrike">
                <a:solidFill>
                  <a:srgbClr val="000000"/>
                </a:solidFill>
                <a:latin typeface="黑体"/>
                <a:ea typeface="黑体"/>
              </a:rPr>
              <a:t>积极沟通</a:t>
            </a:r>
            <a:endParaRPr b="0" lang="en-US" sz="2800" spc="-1" strike="noStrike">
              <a:solidFill>
                <a:srgbClr val="000000"/>
              </a:solidFill>
              <a:latin typeface="Arial"/>
            </a:endParaRPr>
          </a:p>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消极沟通</a:t>
            </a:r>
            <a:endParaRPr b="0" lang="en-US" sz="28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抱怨</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话</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投诉</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参照群体与意见领袖</a:t>
            </a:r>
            <a:endParaRPr b="1" lang="en-US" sz="3200" spc="-1" strike="noStrike">
              <a:solidFill>
                <a:srgbClr val="330066"/>
              </a:solidFill>
              <a:latin typeface="Arial"/>
            </a:endParaRPr>
          </a:p>
        </p:txBody>
      </p:sp>
      <p:sp>
        <p:nvSpPr>
          <p:cNvPr id="208"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参照群体</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意见领袖</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A7C1D-DC2A-4A7B-BB4F-09198F10EB9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14DEE-A58C-4CB0-804C-1F9456AD8F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矩形 3"/>
          <p:cNvSpPr/>
          <p:nvPr/>
        </p:nvSpPr>
        <p:spPr>
          <a:xfrm>
            <a:off x="539640" y="285840"/>
            <a:ext cx="7920000" cy="47124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定义</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参照群体是指一种实际存在的或想象存在的，可作为个体判断事物的依据或楷模的群体。它并非某一成员身份所属的群体，但却被某一成员用做其所属群体的参照对象。</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类型</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准则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比较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否定群体</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9AE68-231B-4524-A4EA-A6DB76135F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矩形 3"/>
          <p:cNvSpPr/>
          <p:nvPr/>
        </p:nvSpPr>
        <p:spPr>
          <a:xfrm>
            <a:off x="539640" y="285840"/>
            <a:ext cx="7920000" cy="5306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影响消费者的主要参照群体</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家庭成员</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同学、同事等同龄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区邻居</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亲戚朋友</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会团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名人专家</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5C15B-B7BB-429C-8ADA-EBACC1A5FB2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矩形 3"/>
          <p:cNvSpPr/>
          <p:nvPr/>
        </p:nvSpPr>
        <p:spPr>
          <a:xfrm>
            <a:off x="1116000" y="404640"/>
            <a:ext cx="7385040" cy="5673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信息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规范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认同性影响</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程度</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的个性与自我形象</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选购商品的类型</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与群体的相关性</a:t>
            </a:r>
            <a:endParaRPr b="0" lang="en-US" sz="24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04999-67C3-4395-BB80-342AC29DDDB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矩形 3"/>
          <p:cNvSpPr/>
          <p:nvPr/>
        </p:nvSpPr>
        <p:spPr>
          <a:xfrm>
            <a:off x="611280" y="260280"/>
            <a:ext cx="7385040" cy="1742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p:txBody>
      </p:sp>
      <p:pic>
        <p:nvPicPr>
          <p:cNvPr id="223" name="Picture 2" descr=""/>
          <p:cNvPicPr/>
          <p:nvPr/>
        </p:nvPicPr>
        <p:blipFill>
          <a:blip r:embed="rId1"/>
          <a:stretch/>
        </p:blipFill>
        <p:spPr>
          <a:xfrm>
            <a:off x="1332000" y="2205000"/>
            <a:ext cx="6840360" cy="4319640"/>
          </a:xfrm>
          <a:prstGeom prst="rect">
            <a:avLst/>
          </a:prstGeom>
          <a:ln w="0">
            <a:noFill/>
          </a:ln>
        </p:spPr>
      </p:pic>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C51E6-8A36-45CF-9A95-190B2D69C4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矩形 3"/>
          <p:cNvSpPr/>
          <p:nvPr/>
        </p:nvSpPr>
        <p:spPr>
          <a:xfrm>
            <a:off x="684360" y="404640"/>
            <a:ext cx="8135640" cy="440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概念</a:t>
            </a:r>
            <a:endParaRPr b="0" lang="en-US" sz="28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意见领袖又称为舆论领袖，是指在人际传播网络中经常为他人提供信息，同时对他人施加影响的“活跃分子”，他们在大众传播效果的形成过程中起着重要的中介或过滤的作用，由他们将信息扩散给受众，形成信息传递的两级传播（</a:t>
            </a:r>
            <a:r>
              <a:rPr b="0" lang="en-US" sz="2000" spc="-1" strike="noStrike">
                <a:solidFill>
                  <a:srgbClr val="000000"/>
                </a:solidFill>
                <a:latin typeface="Arial"/>
                <a:ea typeface="宋体"/>
              </a:rPr>
              <a:t>Lazasfeld</a:t>
            </a:r>
            <a:r>
              <a:rPr b="0" lang="zh-CN" sz="2000" spc="-1" strike="noStrike">
                <a:solidFill>
                  <a:srgbClr val="000000"/>
                </a:solidFill>
                <a:latin typeface="Arial"/>
                <a:ea typeface="宋体"/>
              </a:rPr>
              <a:t>等）</a:t>
            </a:r>
            <a:endParaRPr b="0" lang="en-US" sz="20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其他人的决策可以施展不同程度的影响的个人，其他人从这些人探寻意见和信息</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Rogers &amp; Cartano, 1962</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C3808-D784-4205-BA4B-C0C2F32EBA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矩形 3"/>
          <p:cNvSpPr/>
          <p:nvPr/>
        </p:nvSpPr>
        <p:spPr>
          <a:xfrm>
            <a:off x="928800" y="857160"/>
            <a:ext cx="65008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群体特征与分类</a:t>
            </a:r>
            <a:endParaRPr b="0" lang="en-US" sz="3200" spc="-1" strike="noStrike">
              <a:solidFill>
                <a:srgbClr val="000000"/>
              </a:solidFill>
              <a:latin typeface="Arial"/>
            </a:endParaRPr>
          </a:p>
        </p:txBody>
      </p:sp>
      <p:sp>
        <p:nvSpPr>
          <p:cNvPr id="156" name="TextBox 4"/>
          <p:cNvSpPr/>
          <p:nvPr/>
        </p:nvSpPr>
        <p:spPr>
          <a:xfrm>
            <a:off x="1403280" y="2205000"/>
            <a:ext cx="6913800" cy="2473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的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主要消费者群体的心理与行为特征</a:t>
            </a:r>
            <a:endParaRPr b="0" lang="en-US" sz="3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93399-C503-4698-94DD-51DA4D96D7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矩形 3"/>
          <p:cNvSpPr/>
          <p:nvPr/>
        </p:nvSpPr>
        <p:spPr>
          <a:xfrm>
            <a:off x="684360" y="404640"/>
            <a:ext cx="8135640" cy="532476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特征</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专业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创新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涉入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交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媒体使用特征</a:t>
            </a: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60457-8367-49EB-9930-CFFEC447B0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矩形 3"/>
          <p:cNvSpPr/>
          <p:nvPr/>
        </p:nvSpPr>
        <p:spPr>
          <a:xfrm>
            <a:off x="684360" y="404640"/>
            <a:ext cx="8135640" cy="56602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识别</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征识别法</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调查量表法</a:t>
            </a:r>
            <a:endParaRPr b="0" lang="en-US" sz="24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计量法（</a:t>
            </a:r>
            <a:r>
              <a:rPr b="0" lang="en-US" sz="2000" spc="-1" strike="noStrike">
                <a:solidFill>
                  <a:srgbClr val="000000"/>
                </a:solidFill>
                <a:latin typeface="黑体"/>
                <a:ea typeface="黑体"/>
              </a:rPr>
              <a:t>Sociometric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关键报告者法（</a:t>
            </a:r>
            <a:r>
              <a:rPr b="0" lang="en-US" sz="2000" spc="-1" strike="noStrike">
                <a:solidFill>
                  <a:srgbClr val="000000"/>
                </a:solidFill>
                <a:latin typeface="黑体"/>
                <a:ea typeface="黑体"/>
              </a:rPr>
              <a:t>Key Informant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我认定法（</a:t>
            </a:r>
            <a:r>
              <a:rPr b="0" lang="en-US" sz="2000" spc="-1" strike="noStrike">
                <a:solidFill>
                  <a:srgbClr val="000000"/>
                </a:solidFill>
                <a:latin typeface="黑体"/>
                <a:ea typeface="黑体"/>
              </a:rPr>
              <a:t>Self-Designating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观察法（</a:t>
            </a:r>
            <a:r>
              <a:rPr b="0" lang="en-US" sz="2000" spc="-1" strike="noStrike">
                <a:solidFill>
                  <a:srgbClr val="000000"/>
                </a:solidFill>
                <a:latin typeface="黑体"/>
                <a:ea typeface="黑体"/>
              </a:rPr>
              <a:t>Observation</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4E6EE-15F7-4A23-8E1E-342D1D604A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a:t>
            </a:r>
            <a:endParaRPr b="0" lang="en-US" sz="2400" spc="-1" strike="noStrike">
              <a:solidFill>
                <a:srgbClr val="000000"/>
              </a:solidFill>
              <a:latin typeface="Arial"/>
            </a:endParaRPr>
          </a:p>
        </p:txBody>
      </p:sp>
      <p:pic>
        <p:nvPicPr>
          <p:cNvPr id="236" name="Picture 2" descr=""/>
          <p:cNvPicPr/>
          <p:nvPr/>
        </p:nvPicPr>
        <p:blipFill>
          <a:blip r:embed="rId1"/>
          <a:stretch/>
        </p:blipFill>
        <p:spPr>
          <a:xfrm>
            <a:off x="2484360" y="2421000"/>
            <a:ext cx="5759640" cy="3678120"/>
          </a:xfrm>
          <a:prstGeom prst="rect">
            <a:avLst/>
          </a:prstGeom>
          <a:ln w="0">
            <a:noFill/>
          </a:ln>
        </p:spPr>
      </p:pic>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56C8A-145A-4194-94DE-8478C02BDEE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模式</a:t>
            </a:r>
            <a:endParaRPr b="0" lang="en-US" sz="2400" spc="-1" strike="noStrike">
              <a:solidFill>
                <a:srgbClr val="000000"/>
              </a:solidFill>
              <a:latin typeface="Arial"/>
            </a:endParaRPr>
          </a:p>
        </p:txBody>
      </p:sp>
      <p:pic>
        <p:nvPicPr>
          <p:cNvPr id="240" name="Picture 2" descr=""/>
          <p:cNvPicPr/>
          <p:nvPr/>
        </p:nvPicPr>
        <p:blipFill>
          <a:blip r:embed="rId1"/>
          <a:stretch/>
        </p:blipFill>
        <p:spPr>
          <a:xfrm>
            <a:off x="900000" y="2781360"/>
            <a:ext cx="7848720" cy="295128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BD003-F0F9-4E8F-BEA1-B830374B20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矩形 3"/>
          <p:cNvSpPr/>
          <p:nvPr/>
        </p:nvSpPr>
        <p:spPr>
          <a:xfrm>
            <a:off x="684360" y="476280"/>
            <a:ext cx="8135640" cy="4881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作用</a:t>
            </a:r>
            <a:endParaRPr b="0" lang="en-US" sz="28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起到新信息的接收传递作用</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是新产品的早期采用者</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的信息是非商业性的</a:t>
            </a:r>
            <a:endParaRPr b="0" lang="en-US" sz="24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D1CFB-F58E-4DBA-A373-477238A03C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矩形 3"/>
          <p:cNvSpPr/>
          <p:nvPr/>
        </p:nvSpPr>
        <p:spPr>
          <a:xfrm>
            <a:off x="195120" y="500040"/>
            <a:ext cx="84092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模仿、从众与消费流行</a:t>
            </a:r>
            <a:endParaRPr b="0" lang="en-US" sz="3200" spc="-1" strike="noStrike">
              <a:solidFill>
                <a:srgbClr val="000000"/>
              </a:solidFill>
              <a:latin typeface="Arial"/>
            </a:endParaRPr>
          </a:p>
        </p:txBody>
      </p:sp>
      <p:sp>
        <p:nvSpPr>
          <p:cNvPr id="247" name="矩形 4"/>
          <p:cNvSpPr/>
          <p:nvPr/>
        </p:nvSpPr>
        <p:spPr>
          <a:xfrm>
            <a:off x="1187280" y="2060640"/>
            <a:ext cx="5227920" cy="363564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模仿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从众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流行</a:t>
            </a:r>
            <a:endParaRPr b="0" lang="en-US" sz="3000" spc="-1" strike="noStrike">
              <a:solidFill>
                <a:srgbClr val="000000"/>
              </a:solidFill>
              <a:latin typeface="Arial"/>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1B290-DA72-4505-BF98-0FB20F9B39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矩形 3"/>
          <p:cNvSpPr/>
          <p:nvPr/>
        </p:nvSpPr>
        <p:spPr>
          <a:xfrm>
            <a:off x="468360" y="260280"/>
            <a:ext cx="73184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模仿行为</a:t>
            </a:r>
            <a:endParaRPr b="0" lang="en-US" sz="3200" spc="-1" strike="noStrike">
              <a:solidFill>
                <a:srgbClr val="000000"/>
              </a:solidFill>
              <a:latin typeface="Arial"/>
            </a:endParaRPr>
          </a:p>
        </p:txBody>
      </p:sp>
      <p:sp>
        <p:nvSpPr>
          <p:cNvPr id="251" name="Rectangle 1"/>
          <p:cNvSpPr/>
          <p:nvPr/>
        </p:nvSpPr>
        <p:spPr>
          <a:xfrm>
            <a:off x="468360" y="1724760"/>
            <a:ext cx="7673760" cy="4110120"/>
          </a:xfrm>
          <a:prstGeom prst="rect">
            <a:avLst/>
          </a:prstGeom>
          <a:noFill/>
          <a:ln w="0">
            <a:noFill/>
          </a:ln>
        </p:spPr>
        <p:style>
          <a:lnRef idx="0"/>
          <a:fillRef idx="0"/>
          <a:effectRef idx="0"/>
          <a:fontRef idx="minor"/>
        </p:style>
        <p:txBody>
          <a:bodyPr lIns="90000" rIns="90000" tIns="177840" bIns="183960" anchor="ctr">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的概念</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观察和仿效其他个体的行为而改进自身技能和学会新技能的一种学习类型</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活动中模仿行为的特点</a:t>
            </a:r>
            <a:endParaRPr b="0" lang="en-US" sz="28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热衷于模仿的消费者，一般兴趣广泛，注意力易分散</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是消费者理性思考与感性冲动共同作用的结果</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行为具有普遍性</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并非一种强制性行为，即引起模仿的心理冲动是消费者自愿选择的结果</a:t>
            </a:r>
            <a:endParaRPr b="0" lang="en-US" sz="2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
        <p:nvSpPr>
          <p:cNvPr id="25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从众行为的定义</a:t>
            </a:r>
            <a:endParaRPr b="0" lang="en-US" sz="3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从众</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当他人从事某一活动时自己也去从事这一活动。按群体中多数人的意见行事，自己不另搞一套。</a:t>
            </a:r>
            <a:endParaRPr b="0" lang="en-US" sz="2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社会心理学指出，个体在群体中常常会不知不觉地受到群体的压力，而在知觉、判断、信仰以及行为上，表现出与群体中多数人一致的行为倾向，这就是从众现象，或称为从众行为。</a:t>
            </a:r>
            <a:endParaRPr b="0" lang="en-US" sz="2000" spc="-1" strike="noStrike">
              <a:solidFill>
                <a:srgbClr val="000000"/>
              </a:solidFill>
              <a:latin typeface="Arial"/>
            </a:endParaRPr>
          </a:p>
          <a:p>
            <a:pPr marL="343080" indent="30456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E9B97-F18B-4339-BE47-EBABF2FD274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从众行为产生的因素分析</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体的特点</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群体的特点</a:t>
            </a:r>
            <a:endParaRPr b="0" lang="en-US" sz="2400" spc="-1" strike="noStrike">
              <a:solidFill>
                <a:srgbClr val="000000"/>
              </a:solidFill>
              <a:latin typeface="Arial"/>
            </a:endParaRPr>
          </a:p>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从众行为的特点</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往往是被动接受的过程</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现象涉及的范围有限</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发生的规模较大</a:t>
            </a:r>
            <a:endParaRPr b="0" lang="en-US" sz="2400" spc="-1" strike="noStrike">
              <a:solidFill>
                <a:srgbClr val="000000"/>
              </a:solidFill>
              <a:latin typeface="Arial"/>
            </a:endParaRPr>
          </a:p>
        </p:txBody>
      </p:sp>
      <p:sp>
        <p:nvSpPr>
          <p:cNvPr id="25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2C154-9508-438C-9509-0A5E202910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9"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4CF6C-80CE-4D5D-AC59-BD420C9B09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
        <p:nvSpPr>
          <p:cNvPr id="26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定义</a:t>
            </a:r>
            <a:endParaRPr b="0" lang="en-US" sz="3000" spc="-1" strike="noStrike">
              <a:solidFill>
                <a:srgbClr val="000000"/>
              </a:solidFill>
              <a:latin typeface="Arial"/>
            </a:endParaRPr>
          </a:p>
          <a:p>
            <a:pPr lvl="1" marL="692280" indent="304560">
              <a:lnSpc>
                <a:spcPct val="150000"/>
              </a:lnSpc>
              <a:spcBef>
                <a:spcPts val="499"/>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流行是指一定时期内广为流传的生活方式。具体而言，是一个时期里相当多的人对特定的趣味、语言、思想和行为等各种模式的随从和追随</a:t>
            </a:r>
            <a:endParaRPr b="0" lang="en-US" sz="2000" spc="-1" strike="noStrike">
              <a:solidFill>
                <a:srgbClr val="000000"/>
              </a:solidFill>
              <a:latin typeface="Arial"/>
            </a:endParaRPr>
          </a:p>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方式</a:t>
            </a:r>
            <a:endParaRPr b="0" lang="en-US" sz="3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滴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横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逆流</a:t>
            </a:r>
            <a:endParaRPr b="0" lang="en-US" sz="2000" spc="-1" strike="noStrike">
              <a:solidFill>
                <a:srgbClr val="000000"/>
              </a:solidFill>
              <a:latin typeface="Arial"/>
            </a:endParaRPr>
          </a:p>
          <a:p>
            <a:pPr marL="343080" indent="30456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259920"/>
            <a:ext cx="7543800" cy="941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的特征</a:t>
            </a:r>
            <a:endParaRPr b="1" lang="en-US" sz="3200" spc="-1" strike="noStrike">
              <a:solidFill>
                <a:srgbClr val="330066"/>
              </a:solidFill>
              <a:latin typeface="Arial"/>
            </a:endParaRPr>
          </a:p>
        </p:txBody>
      </p:sp>
      <p:sp>
        <p:nvSpPr>
          <p:cNvPr id="158" name=""/>
          <p:cNvSpPr txBox="1"/>
          <p:nvPr/>
        </p:nvSpPr>
        <p:spPr>
          <a:xfrm>
            <a:off x="468360" y="1412640"/>
            <a:ext cx="8424720" cy="4717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含义</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具有相同或者相近消费特征的消费者称为消费者群体。</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群体的形成是内在与外部因素共同作用的结果。</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类型</a:t>
            </a:r>
            <a:endParaRPr b="0" lang="en-US" sz="30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地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人口统计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心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者对商品的现实反映划分</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A29DE-D452-489F-86C8-EE1FE85C70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流行的阶段及营销策略</a:t>
            </a:r>
            <a:endParaRPr b="0" lang="en-US" sz="28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初发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展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盛行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衰退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过时期</a:t>
            </a:r>
            <a:endParaRPr b="0" lang="en-US" sz="2400" spc="-1" strike="noStrike">
              <a:solidFill>
                <a:srgbClr val="000000"/>
              </a:solidFill>
              <a:latin typeface="Arial"/>
            </a:endParaRPr>
          </a:p>
        </p:txBody>
      </p:sp>
      <p:sp>
        <p:nvSpPr>
          <p:cNvPr id="2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97C67-16D5-42E3-9A1B-B178C35870E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A9A0F-7824-4D8F-A57B-950CF3A342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矩形 3"/>
          <p:cNvSpPr/>
          <p:nvPr/>
        </p:nvSpPr>
        <p:spPr>
          <a:xfrm>
            <a:off x="-612720" y="620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4" name="TextBox 4"/>
          <p:cNvSpPr/>
          <p:nvPr/>
        </p:nvSpPr>
        <p:spPr>
          <a:xfrm>
            <a:off x="900000" y="1773360"/>
            <a:ext cx="6354720" cy="428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B162C-63D3-41F8-9B0E-754D499092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8"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5"/>
          <p:cNvSpPr/>
          <p:nvPr/>
        </p:nvSpPr>
        <p:spPr>
          <a:xfrm>
            <a:off x="1692360" y="2492280"/>
            <a:ext cx="6912000" cy="4757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儿童消费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从纯生理性需要逐渐发展为带有社会性的需要；</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从模仿型消费发展为带有个性特点的消费；</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消费情绪从不稳定发展到比较稳定</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少年消费者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自我概念形成，独立性增强。</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购买倾向性开始确立，购买行为趋向确定。</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受影响的范围逐渐扩大</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ED851-EF81-4513-89DD-89C4D8745D0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3"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5"/>
          <p:cNvSpPr/>
          <p:nvPr/>
        </p:nvSpPr>
        <p:spPr>
          <a:xfrm>
            <a:off x="1979640" y="2637000"/>
            <a:ext cx="6624720" cy="247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敏感性强，追求时尚潮流，是新商品的创新采用者</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个性，注重表现自我</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注重情感，消费冲动性强</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行为日渐成熟，趋向追求实用</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315A3-ACBD-423B-BEC6-F59BB055E62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5"/>
          <p:cNvSpPr/>
          <p:nvPr/>
        </p:nvSpPr>
        <p:spPr>
          <a:xfrm>
            <a:off x="1979640" y="3284640"/>
            <a:ext cx="662472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角色的多重性和消费行为的复杂性</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量入为出，计划性强，消费理性</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EC698-8138-43ED-913F-C801CF3B522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3"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5"/>
          <p:cNvSpPr/>
          <p:nvPr/>
        </p:nvSpPr>
        <p:spPr>
          <a:xfrm>
            <a:off x="1979640" y="3284640"/>
            <a:ext cx="662472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习惯稳定，品牌忠诚度高</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选购商品注重实用</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求结构呈现老龄化特征</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部分老年消费者抱有补偿性消费动机</a:t>
            </a:r>
            <a:endParaRPr b="0" lang="en-US" sz="2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604A5-17A5-4C6E-B433-F1FDA7A6A4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性别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女性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5"/>
          <p:cNvSpPr/>
          <p:nvPr/>
        </p:nvSpPr>
        <p:spPr>
          <a:xfrm>
            <a:off x="1979640" y="3284640"/>
            <a:ext cx="662472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非理性，氛围心情是主导</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商品的实用性和细节设计</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较强的自我意识</a:t>
            </a:r>
            <a:endParaRPr b="0" lang="en-US" sz="2400" spc="-1" strike="noStrike">
              <a:solidFill>
                <a:srgbClr val="000000"/>
              </a:solidFill>
              <a:latin typeface="Arial"/>
            </a:endParaRPr>
          </a:p>
        </p:txBody>
      </p:sp>
      <p:sp>
        <p:nvSpPr>
          <p:cNvPr id="190" name="矩形 6"/>
          <p:cNvSpPr/>
          <p:nvPr/>
        </p:nvSpPr>
        <p:spPr>
          <a:xfrm>
            <a:off x="1053720" y="5229360"/>
            <a:ext cx="2203920" cy="64260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男性消费者群体</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0:49:13Z</dcterms:modified>
  <cp:revision>130</cp:revision>
  <dc:subject/>
  <dc:title>PowerPoint 演示文稿</dc:title>
</cp:coreProperties>
</file>