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663BA7-44B8-4A33-ADAC-C6D7CD54F8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AAF83-3586-4182-A6B6-3B501AE48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B68D0E-126D-4B8E-8618-A2EB5FCF0A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5B4F88-A007-40FC-9813-01081C08CE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2A1048-BD6E-4129-B5C5-2D848D0E7D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2CE055-9AFC-4005-B524-2F5E91F571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78F9D6-E74F-4157-ACD1-909B58C800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F7D97B-7FB1-48DD-8AE6-34EA5A3B60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7F8135-975B-4CC5-A9F0-14127C606B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11E0B0-8A89-46C7-BAFA-29067649C3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3FC90-46C7-4AEE-BC8B-297F79EE88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E693B-5AF5-437F-B2EA-233733646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A5602E-786D-4DE8-B6E4-3EBF559C3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3F0BAE-0DCD-49D6-8B17-B3DC2B8DF4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A346E9-4553-4FE9-B307-46A7E1C690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ABC007-2469-4D6A-AA49-4A8A3EA205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301F56-57FA-4559-B052-32A82ECC86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FC692-55E7-4D4E-BC2C-3ED0C47DB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56FA0-6233-471E-A70C-51A254A9B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DE5B3-EB0E-41F9-9A22-09A7EC18A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DB600-69BB-4FF1-AFBA-F7F90B109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4ADD2-4057-49DF-8CC6-F7FB0FC63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ABB99-98E5-4EA0-B7B2-3CECD2814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C98AB-AB5A-477F-969B-EF14FDC529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F3997-E4F5-4127-8A7A-6FD761A71928}"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2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CFDD6-9BEE-4DF9-AEEB-497A0D366D8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FB119-7061-4212-947A-54FB501E5398}"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2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0A087-573D-4E73-95A5-0906664A34B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5B0DB-5DE9-47A2-9421-F2DB2DED712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28F92-D93E-4EF9-99E8-78C7B5959B1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360" y="980640"/>
            <a:ext cx="82868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三章 消费者的感知、记忆和学习 </a:t>
            </a:r>
            <a:br>
              <a:rPr sz="3600"/>
            </a:br>
            <a:endParaRPr b="1" lang="en-US" sz="3600" spc="-1" strike="noStrike">
              <a:solidFill>
                <a:srgbClr val="330066"/>
              </a:solidFill>
              <a:latin typeface="Arial"/>
            </a:endParaRPr>
          </a:p>
        </p:txBody>
      </p:sp>
      <p:sp>
        <p:nvSpPr>
          <p:cNvPr id="152" name="Rectangle 4"/>
          <p:cNvSpPr/>
          <p:nvPr/>
        </p:nvSpPr>
        <p:spPr>
          <a:xfrm>
            <a:off x="1476360" y="2421000"/>
            <a:ext cx="6262560" cy="2919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的感觉和知觉</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的注意、记忆与联想 </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消费者的学习过程</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者的情绪与情感</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7393C-F1E9-48A2-82F7-4F2EC21729B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4BBCF-BD87-4700-A7FA-A84202B7FB5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89" name="内容占位符 2"/>
          <p:cNvSpPr/>
          <p:nvPr/>
        </p:nvSpPr>
        <p:spPr>
          <a:xfrm>
            <a:off x="1332000" y="1341360"/>
            <a:ext cx="7343640" cy="475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记忆的分类与作用</a:t>
            </a:r>
            <a:endParaRPr b="0" lang="en-US" sz="2800" spc="-1" strike="noStrike">
              <a:solidFill>
                <a:srgbClr val="000000"/>
              </a:solidFill>
              <a:latin typeface="Arial"/>
            </a:endParaRPr>
          </a:p>
          <a:p>
            <a:pPr lvl="1" marL="692280" indent="-347760">
              <a:lnSpc>
                <a:spcPct val="15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类</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瞬时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短时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长时记忆 </a:t>
            </a:r>
            <a:endParaRPr b="0" lang="en-US" sz="2400" spc="-1" strike="noStrike">
              <a:solidFill>
                <a:srgbClr val="000000"/>
              </a:solidFill>
              <a:latin typeface="Arial"/>
            </a:endParaRPr>
          </a:p>
          <a:p>
            <a:pPr lvl="1" marL="692280" indent="-347760">
              <a:lnSpc>
                <a:spcPct val="15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类</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情景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语义记忆</a:t>
            </a:r>
            <a:endParaRPr b="0" lang="en-US" sz="24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2A521-B21F-4D89-9356-9AE7C21E9D2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B57C0-1A17-45AD-8DFA-FE5A71CA2CB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2"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93" name="内容占位符 2"/>
          <p:cNvSpPr/>
          <p:nvPr/>
        </p:nvSpPr>
        <p:spPr>
          <a:xfrm>
            <a:off x="468360" y="1484280"/>
            <a:ext cx="821844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的显性记忆和隐性记忆</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显性记忆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运用传统记忆方法所进行的记忆，是对经历过的事件有意识的重新编排</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隐性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是一种熟悉的感觉，一种感受，或者一系列我们不能准确说出如何得来的信念</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D9668-144C-413F-8563-83D3228E879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2484360" y="122400"/>
            <a:ext cx="551664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的联想</a:t>
            </a:r>
            <a:endParaRPr b="1" lang="en-US" sz="3200" spc="-1" strike="noStrike">
              <a:solidFill>
                <a:srgbClr val="330066"/>
              </a:solidFill>
              <a:latin typeface="Arial"/>
            </a:endParaRPr>
          </a:p>
        </p:txBody>
      </p:sp>
      <p:sp>
        <p:nvSpPr>
          <p:cNvPr id="196" name="PlaceHolder 2"/>
          <p:cNvSpPr>
            <a:spLocks noGrp="1"/>
          </p:cNvSpPr>
          <p:nvPr>
            <p:ph/>
          </p:nvPr>
        </p:nvSpPr>
        <p:spPr>
          <a:xfrm>
            <a:off x="1258560" y="1719360"/>
            <a:ext cx="742788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概念</a:t>
            </a:r>
            <a:endParaRPr b="0" lang="en-US" sz="2800" spc="-1" strike="noStrike">
              <a:solidFill>
                <a:srgbClr val="000000"/>
              </a:solidFill>
              <a:latin typeface="Arial"/>
            </a:endParaRPr>
          </a:p>
          <a:p>
            <a:pPr lvl="1" marL="69228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      </a:t>
            </a:r>
            <a:r>
              <a:rPr b="0" lang="zh-CN" sz="2200" spc="-1" strike="noStrike">
                <a:solidFill>
                  <a:srgbClr val="000000"/>
                </a:solidFill>
                <a:latin typeface="黑体"/>
                <a:ea typeface="黑体"/>
              </a:rPr>
              <a:t>联想是由一个事物（或概念）想到其他事物（或概念）的心理过程。 </a:t>
            </a:r>
            <a:endParaRPr b="0" lang="en-US" sz="22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基本类型</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自由联想</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控制联想</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D862D-1EF2-4EAD-9171-622356B22A6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8" name="PlaceHolder 1"/>
          <p:cNvSpPr>
            <a:spLocks noGrp="1"/>
          </p:cNvSpPr>
          <p:nvPr>
            <p:ph type="title"/>
          </p:nvPr>
        </p:nvSpPr>
        <p:spPr>
          <a:xfrm>
            <a:off x="2484360" y="122400"/>
            <a:ext cx="551664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的联想</a:t>
            </a:r>
            <a:endParaRPr b="1" lang="en-US" sz="3200" spc="-1" strike="noStrike">
              <a:solidFill>
                <a:srgbClr val="330066"/>
              </a:solidFill>
              <a:latin typeface="Arial"/>
            </a:endParaRPr>
          </a:p>
        </p:txBody>
      </p:sp>
      <p:sp>
        <p:nvSpPr>
          <p:cNvPr id="199" name="PlaceHolder 2"/>
          <p:cNvSpPr>
            <a:spLocks noGrp="1"/>
          </p:cNvSpPr>
          <p:nvPr>
            <p:ph/>
          </p:nvPr>
        </p:nvSpPr>
        <p:spPr>
          <a:xfrm>
            <a:off x="1835280" y="1719360"/>
            <a:ext cx="685152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基本规律</a:t>
            </a:r>
            <a:endParaRPr b="0" lang="en-US" sz="28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接近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类似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对比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因果律</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185FC-35A8-4079-86A0-51D040343B9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98409-55DC-4AF2-BCDB-08BAE6644AC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标题 1"/>
          <p:cNvSpPr/>
          <p:nvPr/>
        </p:nvSpPr>
        <p:spPr>
          <a:xfrm>
            <a:off x="25092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消费者的学习过程</a:t>
            </a:r>
            <a:endParaRPr b="0" lang="en-US" sz="3200" spc="-1" strike="noStrike">
              <a:solidFill>
                <a:srgbClr val="000000"/>
              </a:solidFill>
              <a:latin typeface="Arial"/>
            </a:endParaRPr>
          </a:p>
        </p:txBody>
      </p:sp>
      <p:sp>
        <p:nvSpPr>
          <p:cNvPr id="203" name="内容占位符 2"/>
          <p:cNvSpPr/>
          <p:nvPr/>
        </p:nvSpPr>
        <p:spPr>
          <a:xfrm>
            <a:off x="2124000" y="1773360"/>
            <a:ext cx="6562800" cy="4357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学习的本质</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学习过程</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对消费知识的学习</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0257D-9E90-47C6-B64E-48CC9328430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14963-09AC-4038-BD41-242D8E85109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6" name="PlaceHolder 1"/>
          <p:cNvSpPr>
            <a:spLocks noGrp="1"/>
          </p:cNvSpPr>
          <p:nvPr>
            <p:ph type="title"/>
          </p:nvPr>
        </p:nvSpPr>
        <p:spPr>
          <a:xfrm>
            <a:off x="53928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学习的本质</a:t>
            </a:r>
            <a:endParaRPr b="1" lang="en-US" sz="3200" spc="-1" strike="noStrike">
              <a:solidFill>
                <a:srgbClr val="330066"/>
              </a:solidFill>
              <a:latin typeface="Arial"/>
            </a:endParaRPr>
          </a:p>
        </p:txBody>
      </p:sp>
      <p:sp>
        <p:nvSpPr>
          <p:cNvPr id="207" name=""/>
          <p:cNvSpPr txBox="1"/>
          <p:nvPr/>
        </p:nvSpPr>
        <p:spPr>
          <a:xfrm>
            <a:off x="755280" y="1719360"/>
            <a:ext cx="793116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学习是消费者在一定情景下由于反复地经验而产生的行为或行为潜能的比较持久的变化 </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行为或行为潜能改变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学习引起的行为变化是相对持久的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学习是由练习或经验引起的 </a:t>
            </a: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F2230-3630-4FEA-88A5-65FF7830EAC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9"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87701-B2D6-41E0-AE94-2F624BB3B05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p:nvPr>
        </p:nvSpPr>
        <p:spPr>
          <a:xfrm>
            <a:off x="468360" y="1341000"/>
            <a:ext cx="8229600" cy="4411800"/>
          </a:xfrm>
          <a:prstGeom prst="rect">
            <a:avLst/>
          </a:prstGeom>
          <a:noFill/>
          <a:ln w="0">
            <a:noFill/>
          </a:ln>
        </p:spPr>
        <p:txBody>
          <a:bodyPr anchor="t">
            <a:normAutofit fontScale="91000"/>
          </a:bodyPr>
          <a:p>
            <a:pPr marL="312120" indent="-31212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刺激</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反应式学习过程 </a:t>
            </a:r>
            <a:endParaRPr b="0" lang="en-US" sz="30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600" spc="-1" strike="noStrike">
                <a:solidFill>
                  <a:srgbClr val="000000"/>
                </a:solidFill>
                <a:latin typeface="黑体"/>
                <a:ea typeface="黑体"/>
              </a:rPr>
              <a:t>经典条件反射 </a:t>
            </a:r>
            <a:endParaRPr b="0" lang="en-US" sz="26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操作性条件反射 </a:t>
            </a:r>
            <a:endParaRPr b="0" lang="en-US" sz="2600" spc="-1" strike="noStrike">
              <a:solidFill>
                <a:srgbClr val="000000"/>
              </a:solidFill>
              <a:latin typeface="Arial"/>
            </a:endParaRPr>
          </a:p>
          <a:p>
            <a:pPr marL="312120" indent="-31212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认知学习 </a:t>
            </a:r>
            <a:endParaRPr b="0" lang="en-US" sz="30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格式塔的学习理论</a:t>
            </a:r>
            <a:r>
              <a:rPr b="0" lang="en-US" sz="2600" spc="-1" strike="noStrike">
                <a:solidFill>
                  <a:srgbClr val="000000"/>
                </a:solidFill>
                <a:latin typeface="黑体"/>
                <a:ea typeface="黑体"/>
              </a:rPr>
              <a:t>——</a:t>
            </a:r>
            <a:r>
              <a:rPr b="0" lang="zh-CN" sz="2600" spc="-1" strike="noStrike">
                <a:solidFill>
                  <a:srgbClr val="000000"/>
                </a:solidFill>
                <a:latin typeface="黑体"/>
                <a:ea typeface="黑体"/>
              </a:rPr>
              <a:t>顿悟学习 </a:t>
            </a:r>
            <a:endParaRPr b="0" lang="en-US" sz="26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建构主义的学习理论 </a:t>
            </a:r>
            <a:endParaRPr b="0" lang="en-US" sz="2600" spc="-1" strike="noStrike">
              <a:solidFill>
                <a:srgbClr val="000000"/>
              </a:solidFill>
              <a:latin typeface="Arial"/>
            </a:endParaRPr>
          </a:p>
          <a:p>
            <a:pPr lvl="1" marL="6296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21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学习的过程</a:t>
            </a:r>
            <a:endParaRPr b="0" lang="en-US" sz="32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6CB0C-2224-4027-BC7D-3FC34B46460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DA7F2-B373-4142-BA74-3F789537E2A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标题 1"/>
          <p:cNvSpPr/>
          <p:nvPr/>
        </p:nvSpPr>
        <p:spPr>
          <a:xfrm>
            <a:off x="468360" y="54936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知识的学习方式</a:t>
            </a:r>
            <a:endParaRPr b="0" lang="en-US" sz="3200" spc="-1" strike="noStrike">
              <a:solidFill>
                <a:srgbClr val="000000"/>
              </a:solidFill>
              <a:latin typeface="Arial"/>
            </a:endParaRPr>
          </a:p>
        </p:txBody>
      </p:sp>
      <p:sp>
        <p:nvSpPr>
          <p:cNvPr id="215" name="Rectangle 6"/>
          <p:cNvSpPr/>
          <p:nvPr/>
        </p:nvSpPr>
        <p:spPr>
          <a:xfrm>
            <a:off x="1692360" y="1844640"/>
            <a:ext cx="6634080" cy="441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模仿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试错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反应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认知式学习 </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104FE-8B1A-4324-B2EE-2B440E90B95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757F4-4C0E-41CD-9E87-14B616A8C07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标题 1"/>
          <p:cNvSpPr/>
          <p:nvPr/>
        </p:nvSpPr>
        <p:spPr>
          <a:xfrm>
            <a:off x="250920" y="260280"/>
            <a:ext cx="7543800" cy="12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消费者的情绪与情感</a:t>
            </a:r>
            <a:endParaRPr b="0" lang="en-US" sz="3200" spc="-1" strike="noStrike">
              <a:solidFill>
                <a:srgbClr val="000000"/>
              </a:solidFill>
              <a:latin typeface="Arial"/>
            </a:endParaRPr>
          </a:p>
        </p:txBody>
      </p:sp>
      <p:sp>
        <p:nvSpPr>
          <p:cNvPr id="219" name="内容占位符 2"/>
          <p:cNvSpPr/>
          <p:nvPr/>
        </p:nvSpPr>
        <p:spPr>
          <a:xfrm>
            <a:off x="1619280" y="1773360"/>
            <a:ext cx="7067520" cy="4357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情绪和情感的概念 </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情绪和情感的分类 </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情绪或情感营销</a:t>
            </a:r>
            <a:endParaRPr b="0" lang="en-US" sz="3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E62B7-958C-44E5-8A62-D2AA435420A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968A3-1C38-47BD-9310-425D93BB96B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PlaceHolder 1"/>
          <p:cNvSpPr>
            <a:spLocks noGrp="1"/>
          </p:cNvSpPr>
          <p:nvPr>
            <p:ph/>
          </p:nvPr>
        </p:nvSpPr>
        <p:spPr>
          <a:xfrm>
            <a:off x="395280" y="1267920"/>
            <a:ext cx="8229600" cy="44118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概念</a:t>
            </a:r>
            <a:endParaRPr b="0" lang="en-US" sz="30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     </a:t>
            </a:r>
            <a:r>
              <a:rPr b="0" lang="zh-CN" sz="2400" spc="-1" strike="noStrike">
                <a:solidFill>
                  <a:srgbClr val="000000"/>
                </a:solidFill>
                <a:latin typeface="黑体"/>
                <a:ea typeface="黑体"/>
              </a:rPr>
              <a:t>情绪和情感是指个体受到某种刺激所产生的一种身心激动状态，是人对客观事物的态度体验及相应行为的反应</a:t>
            </a:r>
            <a:endParaRPr b="0" lang="en-US" sz="24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绪和情感的组成</a:t>
            </a:r>
            <a:endParaRPr b="0" lang="en-US" sz="30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主观体验</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外部表现</a:t>
            </a:r>
            <a:endParaRPr b="0" lang="en-US" sz="2400" spc="-1" strike="noStrike">
              <a:solidFill>
                <a:srgbClr val="000000"/>
              </a:solidFill>
              <a:latin typeface="Arial"/>
            </a:endParaRPr>
          </a:p>
          <a:p>
            <a:pPr lvl="1" marL="6922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生理唤醒  </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3"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情绪与情感概念</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122A3-514E-4DDA-890B-F2D96F5E30E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C3933-C619-427E-9EA2-72A6D6DA525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323640" y="836280"/>
            <a:ext cx="7715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的感觉和知觉</a:t>
            </a:r>
            <a:endParaRPr b="1" lang="en-US" sz="3200" spc="-1" strike="noStrike">
              <a:solidFill>
                <a:srgbClr val="330066"/>
              </a:solidFill>
              <a:latin typeface="Arial"/>
            </a:endParaRPr>
          </a:p>
        </p:txBody>
      </p:sp>
      <p:sp>
        <p:nvSpPr>
          <p:cNvPr id="156" name=""/>
          <p:cNvSpPr txBox="1"/>
          <p:nvPr/>
        </p:nvSpPr>
        <p:spPr>
          <a:xfrm>
            <a:off x="2124000" y="2133360"/>
            <a:ext cx="6562800" cy="399708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感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知觉</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F6374-AF48-4F6E-A5BD-F21AA18F33C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A18BE-7811-4D1D-A9A3-E1BACFC7F57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
          <p:cNvSpPr txBox="1"/>
          <p:nvPr/>
        </p:nvSpPr>
        <p:spPr>
          <a:xfrm>
            <a:off x="1476360" y="1714680"/>
            <a:ext cx="7096320" cy="471456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绪的分类 </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感的分类 </a:t>
            </a:r>
            <a:endParaRPr b="0" lang="en-US" sz="30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道德感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理智感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美感 </a:t>
            </a:r>
            <a:endParaRPr b="0" lang="en-US" sz="2400" spc="-1" strike="noStrike">
              <a:solidFill>
                <a:srgbClr val="000000"/>
              </a:solidFill>
              <a:latin typeface="Arial"/>
            </a:endParaRPr>
          </a:p>
        </p:txBody>
      </p:sp>
      <p:sp>
        <p:nvSpPr>
          <p:cNvPr id="227"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情绪与情感分类</a:t>
            </a:r>
            <a:endParaRPr b="0" lang="en-US" sz="32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593BC-421F-4E6F-B8E6-1BF8A2AA3DE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CBDA7-7C80-46F1-9BB1-86A51F1F331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0" name=""/>
          <p:cNvSpPr txBox="1"/>
          <p:nvPr/>
        </p:nvSpPr>
        <p:spPr>
          <a:xfrm>
            <a:off x="1258560" y="1773360"/>
            <a:ext cx="7427880" cy="4411440"/>
          </a:xfrm>
          <a:prstGeom prst="rect">
            <a:avLst/>
          </a:prstGeom>
          <a:noFill/>
          <a:ln w="0">
            <a:noFill/>
          </a:ln>
        </p:spPr>
        <p:txBody>
          <a:bodyPr anchor="t">
            <a:normAutofit/>
          </a:bodyPr>
          <a:p>
            <a:pPr marL="343080" indent="-34308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加强商品的情绪或情感诉求 </a:t>
            </a:r>
            <a:endParaRPr b="0" lang="en-US" sz="30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维维豆奶，欢乐开怀</a:t>
            </a:r>
            <a:endParaRPr b="0" lang="en-US" sz="2400" spc="-1" strike="noStrike">
              <a:solidFill>
                <a:srgbClr val="000000"/>
              </a:solidFill>
              <a:latin typeface="Arial"/>
            </a:endParaRPr>
          </a:p>
          <a:p>
            <a:pPr marL="343080" indent="-34308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以激发情绪和情感作为广告的主题 </a:t>
            </a:r>
            <a:endParaRPr b="0" lang="en-US" sz="3000" spc="-1" strike="noStrike">
              <a:solidFill>
                <a:srgbClr val="000000"/>
              </a:solidFill>
              <a:latin typeface="Arial"/>
            </a:endParaRPr>
          </a:p>
          <a:p>
            <a:pPr marL="343080" indent="-343080">
              <a:lnSpc>
                <a:spcPct val="15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李宁：一切皆有可能</a:t>
            </a:r>
            <a:endParaRPr b="0" lang="en-US" sz="2600" spc="-1" strike="noStrike">
              <a:solidFill>
                <a:srgbClr val="000000"/>
              </a:solidFill>
              <a:latin typeface="Arial"/>
            </a:endParaRPr>
          </a:p>
        </p:txBody>
      </p:sp>
      <p:sp>
        <p:nvSpPr>
          <p:cNvPr id="231" name="标题 1"/>
          <p:cNvSpPr/>
          <p:nvPr/>
        </p:nvSpPr>
        <p:spPr>
          <a:xfrm>
            <a:off x="46836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情绪或情感营销</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318C8-C97E-4389-B1D5-051E9011E0D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20BDE-A5D0-4CA9-8BD3-278A6DE3C15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感觉</a:t>
            </a:r>
            <a:endParaRPr b="1" lang="en-US" sz="3200" spc="-1" strike="noStrike">
              <a:solidFill>
                <a:srgbClr val="330066"/>
              </a:solidFill>
              <a:latin typeface="Arial"/>
            </a:endParaRPr>
          </a:p>
        </p:txBody>
      </p:sp>
      <p:sp>
        <p:nvSpPr>
          <p:cNvPr id="160" name=""/>
          <p:cNvSpPr txBox="1"/>
          <p:nvPr/>
        </p:nvSpPr>
        <p:spPr>
          <a:xfrm>
            <a:off x="468360" y="1267920"/>
            <a:ext cx="8229600" cy="480564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感觉的概念</a:t>
            </a:r>
            <a:endParaRPr b="0" lang="en-US" sz="26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400" spc="-1" strike="noStrike">
                <a:solidFill>
                  <a:srgbClr val="000000"/>
                </a:solidFill>
                <a:latin typeface="黑体"/>
                <a:ea typeface="黑体"/>
              </a:rPr>
              <a:t>个体对作用于感觉器官的刺激经过神经系统进行信息加工所产生的对该刺激物个别属性的反映</a:t>
            </a:r>
            <a:endParaRPr b="0" lang="en-US" sz="24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感觉的基本特征</a:t>
            </a:r>
            <a:endParaRPr b="0" lang="en-US" sz="26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感觉的阈限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感觉的适应性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阈下刺激的感觉效应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9B013-2224-48BF-8898-BCBFF01ABAF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2EC66-519F-44A6-8E24-E13A65E2799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标题 1"/>
          <p:cNvSpPr/>
          <p:nvPr/>
        </p:nvSpPr>
        <p:spPr>
          <a:xfrm>
            <a:off x="468360" y="260280"/>
            <a:ext cx="7543800" cy="12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知觉</a:t>
            </a:r>
            <a:endParaRPr b="0" lang="en-US" sz="3200" spc="-1" strike="noStrike">
              <a:solidFill>
                <a:srgbClr val="000000"/>
              </a:solidFill>
              <a:latin typeface="Arial"/>
            </a:endParaRPr>
          </a:p>
        </p:txBody>
      </p:sp>
      <p:sp>
        <p:nvSpPr>
          <p:cNvPr id="164" name="内容占位符 2"/>
          <p:cNvSpPr/>
          <p:nvPr/>
        </p:nvSpPr>
        <p:spPr>
          <a:xfrm>
            <a:off x="1042920" y="1484280"/>
            <a:ext cx="764388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知觉的概念</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人脑对直接作用于感觉器官的事物整体的反映，是对感觉信息的组织和解释过程</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知觉的基本特征</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知觉的相对性 </a:t>
            </a:r>
            <a:r>
              <a:rPr b="0" lang="en-US"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选择性 </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整体性 </a:t>
            </a:r>
            <a:r>
              <a:rPr b="0" lang="en-US"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恒常性</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8FBD6-9EE5-4E70-8C8A-CA3646B2FC8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1A4F1-DFDE-4346-BADF-4CA0E854B5E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标题 1"/>
          <p:cNvSpPr/>
          <p:nvPr/>
        </p:nvSpPr>
        <p:spPr>
          <a:xfrm>
            <a:off x="46836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知觉</a:t>
            </a:r>
            <a:endParaRPr b="0" lang="en-US" sz="3200" spc="-1" strike="noStrike">
              <a:solidFill>
                <a:srgbClr val="000000"/>
              </a:solidFill>
              <a:latin typeface="Arial"/>
            </a:endParaRPr>
          </a:p>
        </p:txBody>
      </p:sp>
      <p:sp>
        <p:nvSpPr>
          <p:cNvPr id="168" name="内容占位符 2"/>
          <p:cNvSpPr/>
          <p:nvPr/>
        </p:nvSpPr>
        <p:spPr>
          <a:xfrm>
            <a:off x="826920" y="1844640"/>
            <a:ext cx="785988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错觉</a:t>
            </a:r>
            <a:endParaRPr b="0" lang="en-US" sz="28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知觉心理学对完全不符合刺激本身特征的失真的或扭曲事实的知觉经验，称为错觉。</a:t>
            </a:r>
            <a:endParaRPr b="0" lang="en-US" sz="24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错觉的种类很多，常见的有大小错觉、形状和方向错觉、轻重错觉、倾斜错觉、运动错觉、时间错觉等。</a:t>
            </a:r>
            <a:endParaRPr b="0" lang="en-US" sz="24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C3872-4D2D-4E05-87F1-904E2B36281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91341-B18C-44FB-903B-E6D2EF5301C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标题 1"/>
          <p:cNvSpPr/>
          <p:nvPr/>
        </p:nvSpPr>
        <p:spPr>
          <a:xfrm>
            <a:off x="250920" y="476280"/>
            <a:ext cx="8472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的注意、记忆与联想</a:t>
            </a:r>
            <a:endParaRPr b="0" lang="en-US" sz="3200" spc="-1" strike="noStrike">
              <a:solidFill>
                <a:srgbClr val="000000"/>
              </a:solidFill>
              <a:latin typeface="Arial"/>
            </a:endParaRPr>
          </a:p>
        </p:txBody>
      </p:sp>
      <p:sp>
        <p:nvSpPr>
          <p:cNvPr id="172" name="内容占位符 2"/>
          <p:cNvSpPr/>
          <p:nvPr/>
        </p:nvSpPr>
        <p:spPr>
          <a:xfrm>
            <a:off x="2340000" y="1719360"/>
            <a:ext cx="6346800" cy="4411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注意</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记忆</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的联想</a:t>
            </a:r>
            <a:endParaRPr b="0" lang="en-US" sz="30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A868C-A150-4B86-AACE-2239E869E1A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32343-C150-40F3-9226-2B9342E11D8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5" name="PlaceHolder 1"/>
          <p:cNvSpPr>
            <a:spLocks noGrp="1"/>
          </p:cNvSpPr>
          <p:nvPr>
            <p:ph type="title"/>
          </p:nvPr>
        </p:nvSpPr>
        <p:spPr>
          <a:xfrm>
            <a:off x="468000" y="40428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注意</a:t>
            </a:r>
            <a:endParaRPr b="1" lang="en-US" sz="3200" spc="-1" strike="noStrike">
              <a:solidFill>
                <a:srgbClr val="330066"/>
              </a:solidFill>
              <a:latin typeface="Arial"/>
            </a:endParaRPr>
          </a:p>
        </p:txBody>
      </p:sp>
      <p:sp>
        <p:nvSpPr>
          <p:cNvPr id="176" name=""/>
          <p:cNvSpPr txBox="1"/>
          <p:nvPr/>
        </p:nvSpPr>
        <p:spPr>
          <a:xfrm>
            <a:off x="1258920" y="1844280"/>
            <a:ext cx="7439040" cy="4157640"/>
          </a:xfrm>
          <a:prstGeom prst="rect">
            <a:avLst/>
          </a:prstGeom>
          <a:noFill/>
          <a:ln w="0">
            <a:noFill/>
          </a:ln>
        </p:spPr>
        <p:txBody>
          <a:bodyPr anchor="t">
            <a:norm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概念</a:t>
            </a:r>
            <a:endParaRPr b="0" lang="en-US" sz="28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意是心理活动或意识对一定对象的指向与集中</a:t>
            </a:r>
            <a:endParaRPr b="0" lang="en-US" sz="24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特点</a:t>
            </a:r>
            <a:endParaRPr b="0" lang="en-US" sz="28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指向性</a:t>
            </a:r>
            <a:endParaRPr b="0" lang="en-US" sz="24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集中性</a:t>
            </a:r>
            <a:endParaRPr b="0" lang="en-US" sz="2400" spc="-1" strike="noStrike">
              <a:solidFill>
                <a:srgbClr val="000000"/>
              </a:solidFill>
              <a:latin typeface="Arial"/>
            </a:endParaRPr>
          </a:p>
          <a:p>
            <a:pPr marL="343080" indent="-343080">
              <a:lnSpc>
                <a:spcPct val="15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9FEE8-AC10-4A35-86FD-8C6E36FDB68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2F965-C31A-4A66-A82F-117841B0DD2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53928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注意</a:t>
            </a:r>
            <a:endParaRPr b="1" lang="en-US" sz="3200" spc="-1" strike="noStrike">
              <a:solidFill>
                <a:srgbClr val="330066"/>
              </a:solidFill>
              <a:latin typeface="Arial"/>
            </a:endParaRPr>
          </a:p>
        </p:txBody>
      </p:sp>
      <p:sp>
        <p:nvSpPr>
          <p:cNvPr id="180" name="内容占位符 2"/>
          <p:cNvSpPr/>
          <p:nvPr/>
        </p:nvSpPr>
        <p:spPr>
          <a:xfrm>
            <a:off x="826920" y="2060640"/>
            <a:ext cx="35290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类型</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不随意注意</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随意注意</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随意后注意</a:t>
            </a:r>
            <a:endParaRPr b="0" lang="en-US" sz="2400" spc="-1" strike="noStrike">
              <a:solidFill>
                <a:srgbClr val="000000"/>
              </a:solidFill>
              <a:latin typeface="Arial"/>
            </a:endParaRPr>
          </a:p>
        </p:txBody>
      </p:sp>
      <p:sp>
        <p:nvSpPr>
          <p:cNvPr id="181" name="内容占位符 2"/>
          <p:cNvSpPr/>
          <p:nvPr/>
        </p:nvSpPr>
        <p:spPr>
          <a:xfrm>
            <a:off x="4932360" y="1989000"/>
            <a:ext cx="3743280" cy="34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功能</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选择功能</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保持功能</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调节监督功能</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282BA-1298-4A7B-82EE-DCDB060D0F9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4B8EB-4DCB-4EA4-88DD-EAF381A4CD0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85" name="内容占位符 2"/>
          <p:cNvSpPr/>
          <p:nvPr/>
        </p:nvSpPr>
        <p:spPr>
          <a:xfrm>
            <a:off x="457200" y="1719360"/>
            <a:ext cx="821844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记忆的概念</a:t>
            </a:r>
            <a:endParaRPr b="0" lang="en-US" sz="2800" spc="-1" strike="noStrike">
              <a:solidFill>
                <a:srgbClr val="000000"/>
              </a:solidFill>
              <a:latin typeface="Arial"/>
            </a:endParaRPr>
          </a:p>
          <a:p>
            <a:pPr lvl="1" marL="692280" indent="-347760">
              <a:lnSpc>
                <a:spcPct val="150000"/>
              </a:lnSpc>
              <a:spcBef>
                <a:spcPts val="751"/>
              </a:spcBef>
              <a:spcAft>
                <a:spcPts val="601"/>
              </a:spcAft>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记忆是在头脑中积累和保存个体经验的心理过程，用信息加工的术语来说，就是人脑对外界输入的信息进行编码、储存和提取的过程</a:t>
            </a:r>
            <a:r>
              <a:rPr b="0" lang="zh-CN" sz="2600" spc="-1" strike="noStrike">
                <a:solidFill>
                  <a:srgbClr val="000000"/>
                </a:solidFill>
                <a:latin typeface="Arial"/>
                <a:ea typeface="宋体"/>
              </a:rPr>
              <a:t>。</a:t>
            </a:r>
            <a:r>
              <a:rPr b="0" lang="zh-CN" sz="3000" spc="-1" strike="noStrike">
                <a:solidFill>
                  <a:srgbClr val="000000"/>
                </a:solidFill>
                <a:latin typeface="Arial"/>
                <a:ea typeface="宋体"/>
              </a:rPr>
              <a:t> </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2T08:50:04Z</dcterms:modified>
  <cp:revision>119</cp:revision>
  <dc:subject/>
  <dc:title>PowerPoint 演示文稿</dc:title>
</cp:coreProperties>
</file>